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57B-4B2A-44E8-B6C2-8F815172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C6A-417C-428A-AA26-D935BB86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423-2453-4827-A26A-4CE055D5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43E-5840-4547-A380-3A65367C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C5A1-D76B-47CB-8FAE-D240B29A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4D5B-C78A-4E44-A1E5-1E6A296E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D808-CF09-4880-9B87-45BA9C95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C2B4-4F62-478A-BB94-EF069CE2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6515-1F9E-4814-AEF5-A53ECA8A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629C-842F-46DA-AED5-176B155A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6417-A170-44A0-94C0-E53225D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5F9-42FC-4BEF-AB7E-6D24080E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1D1F-120F-48F2-837B-59AD7936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C16E-D472-425D-84E9-0AA749CE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2A8B-FDD5-4124-AAED-73E2E84C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73F3-20B3-4A5A-AA06-166F6F37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B40F-2CE7-4061-805B-8D59C7B0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FF4-5896-43BA-A658-1022B7B1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C8E-902F-4F76-9BA9-147992AC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86E-6D1C-4720-835F-A33693BF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8FD-E732-47D2-BE9E-86C624D6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CF1-6D81-4EC8-90F6-632E8C54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060-34C3-4CA7-B2FA-E716C5D7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8CE-1F06-4DF8-8987-A6634AE0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9190-854A-4EDF-BB6C-B75AD2A90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3F72-97E7-4483-A0F5-4D8FFCBCD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600" y="2873520"/>
            <a:ext cx="785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Two Philosophies of Educ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wo Views of Educ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715000" y="4495680"/>
            <a:ext cx="25146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ess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4495680"/>
            <a:ext cx="2895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ition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ok at the school as society’s agency for guiding individuals from unsocial modes f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lieves in the importance of basic subjects – language arts, math, science, 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vilization is a social produ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ditionalists are suspicious of change as our knowledge and culture are too precious to 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raditionalists see the adult as the mature and wise judge of what the young should lear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ditionalists emphasize academic standar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room should be teacher-center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urriculum is content bas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phasize structure and discip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ly on grading, tracking, and grouping children by 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e value of rote memorization and dr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e purpose of education is to pass on a body of knowledge (factual and cultural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t learn basic skills before they can solve probl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acher’s role is to transmit meanings and truth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e knowledge systems that contain meanings and truths independent of what individuals thin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ject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ading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 Reliance on a phonics approach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athematic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 Reliance on direct instruction; drill, computation skill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to – Education is aimed at the good of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ocie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22669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ject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ocial studi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focus on civics, history, geography, the American heritage, and cross-cultural studie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rad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are assigned by comparing performance with age/grade peer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essive education began to take shape in 1875 and formally ended in the 1950’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ever, progressive movements still are exists – today the most obvious is constructivi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pose rote memorization, drill, stern discipline, and the learning of fixed subject matter defined in adult terms with little relation to the chil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al life-experiences is the most valuable teac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essives favor 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essives see history as dynamic – chang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erimentation is the test of any idea or 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oal is that students learn to think for themselv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motes developmentally appropriate practi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cus on problem solv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e context cues to learn to rea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achers role is to help students construct meaning and truth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to –Believed that individuals were born with different temperaments, capacities, and intellectual endowments.  All were to work toward th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ell-ordered, well-balanced socie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ject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ading.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liance on a whole-word approach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athematic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 Reliance on discovery and student-initiated learning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ject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ocial studi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focus is on diversity, multiculturalism, social concerns and social responsibilitie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gress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Grad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are downplayed in favor of teacher comments on progres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very decision made in education is made based from a traditionalist or progressivist point of view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usseau – believed education was for the good of th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ndividu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Rousseau d'aprés Latour, PP 990328"/>
          <p:cNvPicPr/>
          <p:nvPr/>
        </p:nvPicPr>
        <p:blipFill>
          <a:blip r:embed="rId1"/>
          <a:stretch/>
        </p:blipFill>
        <p:spPr>
          <a:xfrm>
            <a:off x="3657600" y="3048120"/>
            <a:ext cx="2190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usseau – Basic tenet is that the young child should learn freely and natural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usseau’s vision was the unique worth of each individual and the need for freedom in education to achieve individuality and person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o Major Question – Is education to promote society or the individual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wey – believed that both aims were achieva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733920"/>
            <a:ext cx="19908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wey – At the heart of his view was the idea of learning from experie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wey – believed that we lear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doing and from experienc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ecame the slogan of progressive educa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23:04:25Z</dcterms:created>
  <dc:creator>User</dc:creator>
  <dc:description/>
  <dc:language>en-US</dc:language>
  <cp:lastModifiedBy>Carlette Hardin</cp:lastModifiedBy>
  <dcterms:modified xsi:type="dcterms:W3CDTF">2005-09-25T18:31:27Z</dcterms:modified>
  <cp:revision>8</cp:revision>
  <dc:subject/>
  <dc:title>Two Philosophies of Education</dc:title>
</cp:coreProperties>
</file>